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955-65BB-4F1F-9552-E86ECD9D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396-8810-40B9-9F62-62A3C5B6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10F-92E8-4B22-9221-A8C32F14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4A6-EBEE-411E-B2DC-CB6B771D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565-6C78-4226-AF09-4D9FED4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51D-7DCE-4458-BEA0-0DDD21A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C54-BBA9-4277-8640-15735252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226-4CE7-4E5B-A248-C9A135B1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C36-A92E-43BC-B831-86EAB684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669-873C-404F-AAD0-3AC897E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F88-7840-46F4-90F9-7D272C76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072-5250-40E1-A119-AB7D4C7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140-7C17-4964-B91C-9175AB5C4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2895480" y="1219320"/>
            <a:ext cx="2514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WINDOWS\Application Data\Microsoft\Media Catalog\Downloaded Clips\cl8e\j0355641.wmf"/>
          <p:cNvPicPr/>
          <p:nvPr/>
        </p:nvPicPr>
        <p:blipFill>
          <a:blip r:embed="rId1"/>
          <a:stretch/>
        </p:blipFill>
        <p:spPr>
          <a:xfrm>
            <a:off x="2514600" y="555480"/>
            <a:ext cx="4257720" cy="3940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28600" y="50734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Return to Your Se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4:28:04Z</dcterms:created>
  <dc:creator>Stephen McDavid</dc:creator>
  <dc:description/>
  <dc:language>en-US</dc:language>
  <cp:lastModifiedBy>Carly Blocker</cp:lastModifiedBy>
  <dcterms:modified xsi:type="dcterms:W3CDTF">2013-11-17T18:59:43Z</dcterms:modified>
  <cp:revision>1</cp:revision>
  <dc:subject/>
  <dc:title>PowerPoint Presentation</dc:title>
</cp:coreProperties>
</file>